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gif" ContentType="image/gif"/>
  <Override PartName="/ppt/media/image9.jpeg" ContentType="image/jpeg"/>
  <Override PartName="/ppt/media/image11.jpeg" ContentType="image/jpeg"/>
  <Override PartName="/ppt/media/image7.jpeg" ContentType="image/jpeg"/>
  <Override PartName="/ppt/media/image8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20.gif" ContentType="image/gif"/>
  <Override PartName="/ppt/media/image18.jpeg" ContentType="image/jpeg"/>
  <Override PartName="/ppt/media/image19.jpeg" ContentType="image/jpeg"/>
  <Override PartName="/ppt/media/image1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16.png" ContentType="image/png"/>
  <Override PartName="/ppt/media/image13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6603-6811-48B2-ACA1-8EE5CDC24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57E9-E5F8-4882-BE12-44BAFB67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2055-E6D0-405A-8897-0A785B446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705B-ADA1-4EBD-8999-3FC7281B1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7975-BAAF-4EF7-A47D-03B4D807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9C4F-8A71-48BD-A01E-B98BCEEE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2BFC-E44C-430B-A1FB-36285C98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490A-D15F-4AE1-AF8C-37BCFCF6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9715-3B79-4D8F-BC58-5F70EEAF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E196-AFF1-488D-9A5A-B9661E85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1DB4-61EC-4FDE-869F-5D0FD957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CA94-71E8-4312-A86C-D22209E4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3BF1-E511-420A-BC11-9C14639682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image" Target="../media/image10.gif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0.gif"/><Relationship Id="rId13" Type="http://schemas.openxmlformats.org/officeDocument/2006/relationships/image" Target="../media/image10.gif"/><Relationship Id="rId14" Type="http://schemas.openxmlformats.org/officeDocument/2006/relationships/image" Target="../media/image10.gif"/><Relationship Id="rId15" Type="http://schemas.openxmlformats.org/officeDocument/2006/relationships/image" Target="../media/image10.gif"/><Relationship Id="rId16" Type="http://schemas.openxmlformats.org/officeDocument/2006/relationships/image" Target="../media/image10.gif"/><Relationship Id="rId17" Type="http://schemas.openxmlformats.org/officeDocument/2006/relationships/image" Target="../media/image10.gif"/><Relationship Id="rId18" Type="http://schemas.openxmlformats.org/officeDocument/2006/relationships/image" Target="../media/image10.gif"/><Relationship Id="rId19" Type="http://schemas.openxmlformats.org/officeDocument/2006/relationships/image" Target="../media/image10.gif"/><Relationship Id="rId20" Type="http://schemas.openxmlformats.org/officeDocument/2006/relationships/image" Target="../media/image10.gif"/><Relationship Id="rId21" Type="http://schemas.openxmlformats.org/officeDocument/2006/relationships/image" Target="../media/image10.gif"/><Relationship Id="rId22" Type="http://schemas.openxmlformats.org/officeDocument/2006/relationships/image" Target="../media/image10.gif"/><Relationship Id="rId23" Type="http://schemas.openxmlformats.org/officeDocument/2006/relationships/image" Target="../media/image10.gif"/><Relationship Id="rId24" Type="http://schemas.openxmlformats.org/officeDocument/2006/relationships/image" Target="../media/image10.gif"/><Relationship Id="rId25" Type="http://schemas.openxmlformats.org/officeDocument/2006/relationships/image" Target="../media/image10.gif"/><Relationship Id="rId26" Type="http://schemas.openxmlformats.org/officeDocument/2006/relationships/image" Target="../media/image10.gif"/><Relationship Id="rId27" Type="http://schemas.openxmlformats.org/officeDocument/2006/relationships/image" Target="../media/image10.gif"/><Relationship Id="rId28" Type="http://schemas.openxmlformats.org/officeDocument/2006/relationships/image" Target="../media/image10.gif"/><Relationship Id="rId29" Type="http://schemas.openxmlformats.org/officeDocument/2006/relationships/image" Target="../media/image10.gif"/><Relationship Id="rId30" Type="http://schemas.openxmlformats.org/officeDocument/2006/relationships/image" Target="../media/image10.gif"/><Relationship Id="rId31" Type="http://schemas.openxmlformats.org/officeDocument/2006/relationships/image" Target="../media/image10.gif"/><Relationship Id="rId32" Type="http://schemas.openxmlformats.org/officeDocument/2006/relationships/image" Target="../media/image10.gif"/><Relationship Id="rId33" Type="http://schemas.openxmlformats.org/officeDocument/2006/relationships/image" Target="../media/image10.gif"/><Relationship Id="rId34" Type="http://schemas.openxmlformats.org/officeDocument/2006/relationships/image" Target="../media/image10.gif"/><Relationship Id="rId3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1676520"/>
            <a:ext cx="761976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9933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nstantia"/>
              </a:rPr>
              <a:t>Welcome to my class</a:t>
            </a:r>
            <a:endParaRPr b="1" lang="en-US" sz="4400" spc="1" strike="noStrike">
              <a:ln w="12600">
                <a:solidFill>
                  <a:srgbClr val="9933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nstantia"/>
              <a:ea typeface="Constantia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09480" y="685800"/>
            <a:ext cx="42674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entury Gothic"/>
              </a:rPr>
              <a:t>Practice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entury Gothic"/>
              <a:ea typeface="Century Gothic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2514600"/>
            <a:ext cx="80769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当你跳了一天舞，没有休息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你 会觉得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---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19720" y="35053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Black"/>
              </a:rPr>
              <a:t>tir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47242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当你 看到父母为你 买的生日礼物时，你 会觉得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---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541008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 Black"/>
              </a:rPr>
              <a:t>happ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8600" y="380880"/>
            <a:ext cx="84582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当你的很多朋友不理你时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你会觉得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---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19720" y="12952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 Black"/>
              </a:rPr>
              <a:t>sa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2590920"/>
            <a:ext cx="87631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当你冬天穿的薄衣服走在路上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你会觉得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---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34290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 Black"/>
              </a:rPr>
              <a:t>col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4648320"/>
            <a:ext cx="89917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当你在夏天的中午走在路上时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你会觉得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---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54864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 Black"/>
              </a:rPr>
              <a:t>ho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8080" y="228600"/>
            <a:ext cx="6019920" cy="662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esson and 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repeat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80880" y="304920"/>
            <a:ext cx="67057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nsolas"/>
              </a:rPr>
              <a:t>Pairs of the work</a:t>
            </a:r>
            <a:endParaRPr b="1" lang="en-US" sz="54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nsolas"/>
              <a:ea typeface="Consolas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3886200"/>
            <a:ext cx="42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"/>
              </a:rPr>
              <a:t>有感情朗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1905120"/>
            <a:ext cx="80010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Estrangelo Edessa"/>
              </a:rPr>
              <a:t>Let's sing a song</a:t>
            </a:r>
            <a:endParaRPr b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Estrangelo Edessa"/>
              <a:ea typeface="Estrangelo Edess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295280" y="838080"/>
            <a:ext cx="655344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nstantia"/>
              </a:rPr>
              <a:t>Thank  you 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nstantia"/>
              <a:ea typeface="Constanti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867280" y="3657600"/>
            <a:ext cx="2668680" cy="28954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048120" y="3733920"/>
            <a:ext cx="1974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809880" y="2133720"/>
            <a:ext cx="46483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Leelawadee"/>
              </a:rPr>
              <a:t>sing a song </a:t>
            </a:r>
            <a:endParaRPr b="1" lang="en-US" sz="5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Leelawadee"/>
              <a:ea typeface="Leelawade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828800" y="1676520"/>
            <a:ext cx="5105520" cy="2133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Lsson 13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3886200"/>
            <a:ext cx="82296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How Do You Feel ?</a:t>
            </a:r>
            <a:endParaRPr b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562720" y="12193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Arial Black"/>
              </a:rPr>
              <a:t>happ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2666880"/>
            <a:ext cx="396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00"/>
                </a:solidFill>
                <a:latin typeface="楷体"/>
                <a:ea typeface="楷体"/>
              </a:rPr>
              <a:t>高兴的； 幸福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114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3520" y="472428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 Black"/>
              </a:rPr>
              <a:t>sa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4267080"/>
            <a:ext cx="37335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00"/>
                </a:solidFill>
                <a:latin typeface="Arial Black"/>
              </a:rPr>
              <a:t>难过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00"/>
                </a:solidFill>
                <a:latin typeface="Arial Black"/>
              </a:rPr>
              <a:t>悲伤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058080" y="4343400"/>
            <a:ext cx="3085920" cy="2514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3880" y="3200400"/>
            <a:ext cx="342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col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52578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800000"/>
                </a:solidFill>
                <a:latin typeface="Arial Black"/>
              </a:rPr>
              <a:t>寒冷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419720" y="25146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590920"/>
            <a:ext cx="1828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581280" y="28195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981080" y="19051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5105520" y="15238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2057400" y="54100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2209680" y="44197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1523880" y="38098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228600" y="2133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9"/>
          <a:stretch/>
        </p:blipFill>
        <p:spPr>
          <a:xfrm>
            <a:off x="1219320" y="21337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0"/>
          <a:stretch/>
        </p:blipFill>
        <p:spPr>
          <a:xfrm>
            <a:off x="-228600" y="28954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1"/>
          <a:stretch/>
        </p:blipFill>
        <p:spPr>
          <a:xfrm>
            <a:off x="380880" y="28954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2"/>
          <a:stretch/>
        </p:blipFill>
        <p:spPr>
          <a:xfrm>
            <a:off x="0" y="41911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457200" y="51055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/>
          <a:stretch/>
        </p:blipFill>
        <p:spPr>
          <a:xfrm>
            <a:off x="5867280" y="2133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5"/>
          <a:stretch/>
        </p:blipFill>
        <p:spPr>
          <a:xfrm>
            <a:off x="3962520" y="4267080"/>
            <a:ext cx="1066680" cy="1067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6"/>
          <a:stretch/>
        </p:blipFill>
        <p:spPr>
          <a:xfrm>
            <a:off x="4572000" y="34290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7"/>
          <a:stretch/>
        </p:blipFill>
        <p:spPr>
          <a:xfrm>
            <a:off x="6705720" y="4572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8"/>
          <a:stretch/>
        </p:blipFill>
        <p:spPr>
          <a:xfrm>
            <a:off x="594360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9"/>
          <a:stretch/>
        </p:blipFill>
        <p:spPr>
          <a:xfrm>
            <a:off x="6934320" y="2590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0"/>
          <a:stretch/>
        </p:blipFill>
        <p:spPr>
          <a:xfrm>
            <a:off x="4267080" y="2133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1"/>
          <a:stretch/>
        </p:blipFill>
        <p:spPr>
          <a:xfrm>
            <a:off x="3352680" y="49528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2"/>
          <a:stretch/>
        </p:blipFill>
        <p:spPr>
          <a:xfrm>
            <a:off x="2209680" y="25146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3"/>
          <a:stretch/>
        </p:blipFill>
        <p:spPr>
          <a:xfrm>
            <a:off x="914400" y="17524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4"/>
          <a:stretch/>
        </p:blipFill>
        <p:spPr>
          <a:xfrm>
            <a:off x="2514600" y="32004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5"/>
          <a:stretch/>
        </p:blipFill>
        <p:spPr>
          <a:xfrm>
            <a:off x="3581280" y="21337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6"/>
          <a:stretch/>
        </p:blipFill>
        <p:spPr>
          <a:xfrm>
            <a:off x="27432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7"/>
          <a:stretch/>
        </p:blipFill>
        <p:spPr>
          <a:xfrm>
            <a:off x="7620120" y="40384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8"/>
          <a:stretch/>
        </p:blipFill>
        <p:spPr>
          <a:xfrm>
            <a:off x="7620120" y="510552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9"/>
          <a:stretch/>
        </p:blipFill>
        <p:spPr>
          <a:xfrm>
            <a:off x="5638680" y="47242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0"/>
          <a:stretch/>
        </p:blipFill>
        <p:spPr>
          <a:xfrm>
            <a:off x="8381880" y="3429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1"/>
          <a:stretch/>
        </p:blipFill>
        <p:spPr>
          <a:xfrm>
            <a:off x="8381880" y="25909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2"/>
          <a:stretch/>
        </p:blipFill>
        <p:spPr>
          <a:xfrm>
            <a:off x="6934320" y="17524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3"/>
          <a:stretch/>
        </p:blipFill>
        <p:spPr>
          <a:xfrm>
            <a:off x="6477120" y="28954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4"/>
          <a:stretch/>
        </p:blipFill>
        <p:spPr>
          <a:xfrm>
            <a:off x="7848720" y="21337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019920" y="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Century Gothic"/>
              </a:rPr>
              <a:t>热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228600"/>
            <a:ext cx="32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 Black"/>
              </a:rPr>
              <a:t>ho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4572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85800" y="2133720"/>
            <a:ext cx="3048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 Black"/>
              </a:rPr>
              <a:t>tired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4724280"/>
            <a:ext cx="647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00000"/>
                </a:solidFill>
                <a:latin typeface="Arial"/>
              </a:rPr>
              <a:t>疲倦的；厌烦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52480" y="114300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Constantia"/>
                <a:ea typeface="Malgun Gothic"/>
              </a:rPr>
              <a:t>How do you feel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752480"/>
            <a:ext cx="99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3200400"/>
            <a:ext cx="9907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743200"/>
            <a:ext cx="487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Cambria"/>
                <a:ea typeface="MS UI Gothic"/>
              </a:rPr>
              <a:t>I  feel   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438280" y="4952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315200" y="20574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572000" y="4952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-457200" y="3886200"/>
            <a:ext cx="3048120" cy="2666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5334120" y="28195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2T09:18:53Z</dcterms:created>
  <dc:creator>www.xkb1.com; Administrator</dc:creator>
  <dc:description>www.xkb1.com</dc:description>
  <cp:keywords>www.xkb1.com</cp:keywords>
  <dc:language>en-US</dc:language>
  <cp:lastModifiedBy>新课标第一网</cp:lastModifiedBy>
  <dcterms:modified xsi:type="dcterms:W3CDTF">2013-10-10T08:12:23Z</dcterms:modified>
  <cp:revision>10</cp:revision>
  <dc:subject>www.xkb1.com</dc:subject>
  <dc:title>www.xkb1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